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DB9-5DF7-49BD-A0C0-B6139094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7B5-4394-4D47-A4D4-333EDDE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C1E-936D-48FD-A1CD-0C1BE646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897-5092-4974-9FD0-8E313DD9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392B-B4DB-4618-8F6A-C04F976B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11BF-9199-4B9B-92BB-337D7D8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2B73-65E0-4F60-8C2B-108322C9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D37-D4B2-4DE7-887D-CC34A77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9339-C9D9-4F4A-A4E3-BA1AF06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6FB-E709-4F3B-8A13-53D690C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440-FB02-4C51-A197-34B4494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E41-8EBD-47A6-A8BE-97091634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D8D6-2442-449F-890E-6053F3EE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3829-A701-4AF1-BB41-97F9C305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BA8-B51F-46E0-BD8D-539C1373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CB34-8187-4DC4-B093-ADAE9176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6434-0B80-4F10-9485-49B3AD5C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3A7-B452-4B38-A013-0CE8FDE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877-3DA9-4C64-B884-506F6EA8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0FF-4820-4DBC-AB8C-4BD3955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B5E-03E9-422E-AE9B-54F1DE0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800-8C48-4F8D-89F7-0CBF459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1AD-2E4F-4F5B-8F80-0EB4E01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885-7F5F-401E-BAA9-3E9832E4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E6D-DEF4-4F43-9D7A-8C47927C26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033-E762-4429-8F75-83F4EC3E96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pt. 3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glish-Junio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ish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 book Qui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lly Sunday use to preach, Alcohol is an appalling source of misery and crime in the land. His efforts helped bring about legel prohibition in the 20’s and early 30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que:worship::________:exerc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ng:Bell::honk:_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17:59Z</dcterms:created>
  <dc:creator>VMS</dc:creator>
  <dc:description/>
  <dc:language>en-US</dc:language>
  <cp:lastModifiedBy>VMS</cp:lastModifiedBy>
  <dcterms:modified xsi:type="dcterms:W3CDTF">2009-09-03T14:27:09Z</dcterms:modified>
  <cp:revision>2</cp:revision>
  <dc:subject/>
  <dc:title>Sept. 3</dc:title>
</cp:coreProperties>
</file>